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32B1-7351-44C9-B879-9E6D928E2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D207-E336-4DF7-8E44-BCC36224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2D92-A2B5-477F-8E54-D5FE10F34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522E-256C-425D-951D-89BBC6B1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2AF0-6CBE-4892-8E88-AD6705AD6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1DAD-20A9-4631-8368-0B9CC26D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7D2D-E9DF-4D5E-A07C-FCE47EDF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D395-FB45-4AF4-B57C-3753B5A6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BD05-7E0F-499A-AAC2-67C97769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4B08-112D-42F1-8934-03BD84DF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8F93-B694-4CEE-91BC-EEBE77B4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642A-4523-4F89-973C-C6816ED3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ECA2-3C72-4B71-9C42-DA974B96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2D7C-0174-4278-85E4-B78280D6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F790-E97E-47CD-80B4-43DB5075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03F4-B7F9-480F-88B8-1CA74B7C8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BAD6-860F-4112-A4A0-6CED83071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5964-EF18-4378-B5B6-C60D0D46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FDC3-ABFF-49C9-92F0-3D495B47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32AA-8D81-4C32-809A-0BDBECC3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6479-129E-4ED1-BFEB-5ED2D762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2235-B2BD-453A-8D6E-240323D2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0373-950E-42A9-BAB7-87EC250A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2DC1-C63C-4643-8C62-F9A5B861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9A24-8058-4C35-AF0F-EC225B1159D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B590-4AD4-4586-BB2D-CE0AEA2F881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Порядок представления годового отчета за2019г. в ГБУЗ «ЗККФПЦ»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Формирование и контроль корректности отчетов федерального статистического наблюд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357360"/>
            <a:ext cx="64008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</a:rPr>
              <a:t>Заместитель главного врача по организационно-методической работе Татьяна Николаевна Кнестик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</a:rPr>
              <a:t>Тел: 41-60-09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</a:rPr>
              <a:t>8-914-498-9451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e-mail: optd_chita@mail.r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Заполнение данных по профилактическим осмотрам на туберкулез в форм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13880" y="713880"/>
            <a:ext cx="7858440" cy="35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33 табл 2200                          и                              Ф30 табл 25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57120" y="1071720"/>
          <a:ext cx="3929040" cy="2717640"/>
        </p:xfrm>
        <a:graphic>
          <a:graphicData uri="http://schemas.openxmlformats.org/drawingml/2006/table">
            <a:tbl>
              <a:tblPr/>
              <a:tblGrid>
                <a:gridCol w="2419560"/>
                <a:gridCol w="226800"/>
                <a:gridCol w="476280"/>
                <a:gridCol w="428760"/>
                <a:gridCol w="377640"/>
              </a:tblGrid>
              <a:tr h="101880"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0-14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ервые выявлено больных туберкулезом из числа осмотренных на туберкуле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4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именением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инодиагност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45360" rIns="453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аллергена туберкулезного рекомбинантного в стандартном разведен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рограф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логических метод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методом бактериоскоп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14880" y="4785840"/>
            <a:ext cx="492912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28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равнение идет по 5 столбц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ены не все методы выявления и для детей, и для взросл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роке 1 показываются все методы выявления но,                     также как в 33 форме, 1 человек – 1 метод (ведущ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ка 1 больше суммы 2+3+4+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зрослых  стр.1 больше суммы строк  2 и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етей  (1.1+1.2+1.3) больше суммы 4+5+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ка  6 частично входит в строку 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Содержимое 10" descr="2512.jpg"/>
          <p:cNvPicPr/>
          <p:nvPr/>
        </p:nvPicPr>
        <p:blipFill>
          <a:blip r:embed="rId1"/>
          <a:stretch/>
        </p:blipFill>
        <p:spPr>
          <a:xfrm>
            <a:off x="4359240" y="1071720"/>
            <a:ext cx="4326120" cy="357156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11"/>
          <p:cNvSpPr/>
          <p:nvPr/>
        </p:nvSpPr>
        <p:spPr>
          <a:xfrm>
            <a:off x="428760" y="3811680"/>
            <a:ext cx="385740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а строк 2,4,5 должна быть равна строке 1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больной показывается один раз, хотя он может быть обследован разными методами, но указывается только один ведущий метод вы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.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 забы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данные стр.3 входят как часть в строку 2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данные стр.6 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онтроли с  ф.3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3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1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4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(1.1+1.2)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5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1.3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(2-3)гр(4+5)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4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3гр(4+5)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5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4гр3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2гр5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6гр3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3гр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05720" cy="63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4728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25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2600" y="944640"/>
          <a:ext cx="9118800" cy="5913360"/>
        </p:xfrm>
        <a:graphic>
          <a:graphicData uri="http://schemas.openxmlformats.org/drawingml/2006/table">
            <a:tbl>
              <a:tblPr/>
              <a:tblGrid>
                <a:gridCol w="3251160"/>
                <a:gridCol w="433440"/>
                <a:gridCol w="749520"/>
                <a:gridCol w="812520"/>
                <a:gridCol w="704880"/>
                <a:gridCol w="1122480"/>
                <a:gridCol w="1290600"/>
                <a:gridCol w="75420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. 3 – гр.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 туберкуле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. 5 – гр.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:  1- 7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- 14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осмотренных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тр.1)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ован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орографичес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скопичес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ных детей (стр.1.1 + 1.2 + 1.3)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ы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диагностика с применением аллергена бактерий с 2 туберкулиновыми единицами очищенного туберкулина в стандартном развед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диагностика с применением аллергена туберкулезного рекомбинантного в стандартном развед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 lvl="2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генологическое (флюорографическое) исследование органов грудной кле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07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2019240" y="533520"/>
            <a:ext cx="510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marL="703800" indent="-703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елевые осмотры на туберкуле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85"/>
          <p:cNvSpPr/>
          <p:nvPr/>
        </p:nvSpPr>
        <p:spPr>
          <a:xfrm>
            <a:off x="4800600" y="3657600"/>
            <a:ext cx="3581280" cy="1143000"/>
          </a:xfrm>
          <a:prstGeom prst="rect">
            <a:avLst/>
          </a:pr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к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е (рав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е строк 2 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85"/>
          <p:cNvSpPr/>
          <p:nvPr/>
        </p:nvSpPr>
        <p:spPr>
          <a:xfrm>
            <a:off x="4800600" y="5029200"/>
            <a:ext cx="3581280" cy="1371600"/>
          </a:xfrm>
          <a:prstGeom prst="rect">
            <a:avLst/>
          </a:pr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а строк 1.1 + 1.2 + 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е строк 4 + 5 +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ицу - пояс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1"/>
          <p:cNvSpPr/>
          <p:nvPr/>
        </p:nvSpPr>
        <p:spPr>
          <a:xfrm>
            <a:off x="228600" y="0"/>
            <a:ext cx="8534520" cy="609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marL="291600" indent="-29160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НИМАНИЕ! МЕЖФОРМЕННЫЙ КОНТ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 Формой  №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85"/>
          <p:cNvSpPr/>
          <p:nvPr/>
        </p:nvSpPr>
        <p:spPr>
          <a:xfrm>
            <a:off x="25560" y="1109520"/>
            <a:ext cx="4572000" cy="762120"/>
          </a:xfrm>
          <a:prstGeom prst="rect">
            <a:avLst/>
          </a:pr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дения включ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1 раз в году по основному мет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Ф.8(о заболеваниях активным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туберкулезом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00040" y="121428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ляется головным ПТУ субъекта РФ, ведущим территориальный регистр (картотеку) больных туберкулезо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только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а основе извещения ф.089у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торое заполняется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а каждого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первые выявленного больного туберкулезо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ли рецидив 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исылаетс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в головное ПТУ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едучреждениями любой подчиненнос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Минздрав, ФСИН, ФМБА, МО, ФМС, РЖД, психинтернат, детский дом и т.д. и т.п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200160" y="257040"/>
            <a:ext cx="8743680" cy="634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50004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5"/>
          <p:cNvSpPr/>
          <p:nvPr/>
        </p:nvSpPr>
        <p:spPr>
          <a:xfrm>
            <a:off x="142920" y="5357880"/>
            <a:ext cx="8858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Сумма строк 9-10 и 11-12 больше общего числа впервые выявленных бактериовыдел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2. Сумма по нозологиям внелегочного туберкулеза (стр.17-25) меньше, чем всего (стр.15-16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.к. перечислены не все возможные локализ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3. Обязательно заполнять строки ФСИН (30-31), иностранцы (28-29), БОМЖ (32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4. Если больной выявлен посмертно и одновременно он иностранец или из ФСИН, или БОМЖ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о указывать его только один раз в строках 33-34 – посмертное выявл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3712680" y="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аблица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6357600" y="4929120"/>
            <a:ext cx="98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  <a:ea typeface="Arial"/>
              </a:rPr>
              <a:t>Ж                       3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3"/>
          <p:cNvSpPr/>
          <p:nvPr/>
        </p:nvSpPr>
        <p:spPr>
          <a:xfrm>
            <a:off x="3129120" y="404640"/>
            <a:ext cx="29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аблица 1000 продол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8070840" cy="10587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285840" y="2060640"/>
            <a:ext cx="860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5. Рецидивы (стр.35-36) не включаются в строки 1-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6. Бактериовыделители (стр.37-38) указываются 1 раз, а не так, как у впервые выявлен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6"/>
          <p:cNvSpPr/>
          <p:nvPr/>
        </p:nvSpPr>
        <p:spPr>
          <a:xfrm>
            <a:off x="179280" y="4714920"/>
            <a:ext cx="8786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7. Жители других территорий включают как иностранцев (стр.28-29), так и жителей других субъектов Р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8. При проверке баланса между 8 и 33 формой (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 того, как Вы сделаете контроли по МЕДСТАТУ и не получите 0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разница получается за счет больных из МО, ФМБА и других ведомств, имеющих свои тубучрежд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9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Данные ФМС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по впервые выявленным при освидетельствовании на право работы или проживания в России больным  туберкулезом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обязательно включать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в строки «иностранец» и/или житель другой территор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1"/>
          <p:cNvSpPr/>
          <p:nvPr/>
        </p:nvSpPr>
        <p:spPr>
          <a:xfrm>
            <a:off x="3129840" y="263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аблица 1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13"/>
          <p:cNvSpPr/>
          <p:nvPr/>
        </p:nvSpPr>
        <p:spPr>
          <a:xfrm>
            <a:off x="5796000" y="3284640"/>
            <a:ext cx="428760" cy="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684360" y="3141720"/>
            <a:ext cx="9612000" cy="131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3"/>
          <a:stretch/>
        </p:blipFill>
        <p:spPr>
          <a:xfrm>
            <a:off x="6300720" y="3141720"/>
            <a:ext cx="9612360" cy="13176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ая соединительная линия 17"/>
          <p:cNvSpPr/>
          <p:nvPr/>
        </p:nvSpPr>
        <p:spPr>
          <a:xfrm>
            <a:off x="7596360" y="3284640"/>
            <a:ext cx="428400" cy="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1"/>
          <p:cNvSpPr/>
          <p:nvPr/>
        </p:nvSpPr>
        <p:spPr>
          <a:xfrm>
            <a:off x="3129840" y="4076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аблица 1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4"/>
          <a:stretch/>
        </p:blipFill>
        <p:spPr>
          <a:xfrm>
            <a:off x="571680" y="4500720"/>
            <a:ext cx="9612000" cy="13176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ая соединительная линия 24"/>
          <p:cNvSpPr/>
          <p:nvPr/>
        </p:nvSpPr>
        <p:spPr>
          <a:xfrm>
            <a:off x="4000680" y="4572000"/>
            <a:ext cx="428400" cy="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4"/>
          <p:cNvSpPr/>
          <p:nvPr/>
        </p:nvSpPr>
        <p:spPr>
          <a:xfrm>
            <a:off x="2630160" y="3500280"/>
            <a:ext cx="26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бычно проблем не возник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71440" y="466560"/>
            <a:ext cx="8601120" cy="59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ставляется головным ПТУ субъекта РФ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ммированием данных из форм, присланных районными ПТД и другими учреждениями МЗ РФ, имеющими фтизиатрические отделения (кабинеты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основе «Карты диспансерного наблюдения» ф.030-4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в которой нет сведений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о методе выявления туберкулеза,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ожественной лекарственной устойчивости МБТ, сочетанной ТБ-ВИЧ инфекции и прочего.</a:t>
            </a: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           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Дополнительно используютс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 № 081/у «Медицинская карта больного туберкулёзом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 № 066/у «Статистическая карта выбывшего из стационара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ф. № 106/у «Врачебное свидетельство о смерти»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ф. № 035/у «Журнал для записи заключений ЦВКК» 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ф. № 04-ТБ/у «Журнал регистрации микроскопических      исследований на туберкулёз»</a:t>
            </a:r>
            <a:br>
              <a:rPr sz="2900"/>
            </a:br>
            <a:br>
              <a:rPr sz="29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4572000" y="285840"/>
            <a:ext cx="714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341928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Ф.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00040" y="214200"/>
            <a:ext cx="8229600" cy="34434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571680" y="4000680"/>
            <a:ext cx="8001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Данные по впервые выявленным больным в ф.33 должны быть меньше, чем в ф.8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.к. там все ведомства, а в ф.33 только М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2. Другие локализации туберкулеза (стр.6 ф.33) соответствуют термину туберкулез внелегочных локализаций (стр.15-16 ф.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3. Инвалидность стр.8 больше суммы строк 9 и 10, т.к. еще есть 3 груп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4. Обследовано на АТ к ВИЧ (стр.11) относится только к больным туберкулез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5. Положительный результат иммуноблотинга среди контингентов (стр.12 гр.7 )должен быть меньше или равен данным  ф61 табл.2000 стр.3 гр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6. Число больных ТБ+ВИЧ (стр.13) может быть больше стр.12, т.к. включает в себя не только больных ТБ, у которых выявлен ВИЧ, но и больных ВИЧ, у которых выявлен ТБ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Требования к составлению годового отчета за 2019 год по противотуберкулезной работе среди населения.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Регистрация новых случаев заболевания туберкулезом за 2019г. –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 20.12.2019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о 25.12.2019г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 – окончательно сверить (можно по телефону) заболеваемость, в том числе – выявленных при аутопсии, бактериовыделителей (по методу обнаружения), временно проживающих на территории, БОМЖ, число умерших от туберкуле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858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Данные по учету больных ТБ+ВИЧ в ф.61 и ф.33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форма не меняетс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571680"/>
            <a:ext cx="860724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/в всег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1000стр(5+6)гр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установлен диагноз впервые, но еще не взяты на диспансерный учет с диагнозом В20.0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gt; ф61т2000стр2.1гр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lt;ф33т2100стр13гр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. учет с диагнозами А15-А19 и В20.0 – 23.0; Z 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/в 0-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1000стр(5+6)гр(6-11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установлен диагноз впервые, но еще не 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gt;ф61т2000стр2.1гр8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lt;ф33т2100стр13гр(5+6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. учет с диагн. А15-А19 и В20.0 – 23.0; Z 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конец г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сег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2000стр2.1гр15= ф33т2100стр13гр7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разницу объясн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0-17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2000стр2.1гр18= ф33т2100стр13гр(8+9)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ницу объясн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азницу объяснит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3 больше ф33т2100стр11гр(4+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(4+56+6) больше ф33т2100стр11гр(5+8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7 больше ф33т2100стр11гр(6+9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абл6000стр17гр 3 больше ф33табл2200стр12гр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324000" y="285840"/>
            <a:ext cx="8619840" cy="13683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304920" y="1628640"/>
            <a:ext cx="865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В таблицах 2110 и 2120 бывают только арифметические ошиб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2. В таблице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2130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часто не обращают внимание на скобку, где указано из стр.1 гр.7, т.е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только больные Т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2607120" y="2254320"/>
            <a:ext cx="39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2. Выявление больных и некоторых групп ри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аблица 2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42960" y="2786040"/>
          <a:ext cx="6095880" cy="2514600"/>
        </p:xfrm>
        <a:graphic>
          <a:graphicData uri="http://schemas.openxmlformats.org/drawingml/2006/table">
            <a:tbl>
              <a:tblPr/>
              <a:tblGrid>
                <a:gridCol w="5651640"/>
                <a:gridCol w="444240"/>
              </a:tblGrid>
              <a:tr h="304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ервые выявлено больных туберкулезом из числа осмотренных на туберкуле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именением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инодиагност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ена туберкулезного рекомбинантного в стандартном разведе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рограф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логических метод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методом бактериоскоп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на учет в IIIА группу диспансерного уче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на учет в V группу диспансерного учета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4292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4292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 умерло больных от туберкулеза постоянных жителей, диагноз у которых установлен посмерт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 умерло больных от ВИЧ-инфекции постоянных жителей, диагноз туберкулеза у которых установлен посмерт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TextBox 9"/>
          <p:cNvSpPr/>
          <p:nvPr/>
        </p:nvSpPr>
        <p:spPr>
          <a:xfrm>
            <a:off x="324000" y="5429160"/>
            <a:ext cx="864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Сумма строк 2,4,5 должна быть равна строке 1 . Один больной показывается один раз, хотя он может быть обследован разными методами, но указывается только один метод вы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2. Не забыть, что данные стр.3 входят как часть в строку 2, а данные стр.6 -в стр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3. Сумма строк 11 и 12 меньше, чем сумма строк ф.8 табл.1000 стр.(33+34) гр.5 (посмертное выявление ТБ), т.к. табл. 2200 постоянные жители, а ф.8 – в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Object 26" descr=""/>
          <p:cNvPicPr/>
          <p:nvPr/>
        </p:nvPicPr>
        <p:blipFill>
          <a:blip r:embed="rId1"/>
          <a:stretch/>
        </p:blipFill>
        <p:spPr>
          <a:xfrm>
            <a:off x="714240" y="285840"/>
            <a:ext cx="9367920" cy="22860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>
            <a:off x="285840" y="2714760"/>
            <a:ext cx="8429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Основная проблема – переход по возрасту из детей в подростки и из подростков во взрослые, перешедших по возрасту учитываем как выбывших в своей возрастной категории, а в следующей возрастной категории – как   прибывших. Иначе межгодовой баланс не сходи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2. Умерших учитываем только из состоявших на уче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27" descr=""/>
          <p:cNvPicPr/>
          <p:nvPr/>
        </p:nvPicPr>
        <p:blipFill>
          <a:blip r:embed="rId2"/>
          <a:stretch/>
        </p:blipFill>
        <p:spPr>
          <a:xfrm>
            <a:off x="285840" y="3860640"/>
            <a:ext cx="8707320" cy="9367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6"/>
          <p:cNvSpPr/>
          <p:nvPr/>
        </p:nvSpPr>
        <p:spPr>
          <a:xfrm>
            <a:off x="428760" y="5143680"/>
            <a:ext cx="8429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 графах 4,5,6 табл.2310 дополнительно к стр.7 табл.2300 указываются умершие от туберкулеза, не состоявшие на учете в ПТУ М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 графах 2 (умерло от ТБ больных ТБ+ВИЧ)и 7(из умерших от других причин, умерло больных  ТБ+ВИЧ)  наоборот, показывают часть больных из строк 7 и 8 табл.2300 соответственно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227160" y="642960"/>
            <a:ext cx="8916840" cy="3722760"/>
          </a:xfrm>
          <a:prstGeom prst="rect">
            <a:avLst/>
          </a:prstGeom>
          <a:ln w="0">
            <a:noFill/>
          </a:ln>
        </p:spPr>
      </p:pic>
      <p:sp>
        <p:nvSpPr>
          <p:cNvPr id="151" name="TextBox 4"/>
          <p:cNvSpPr/>
          <p:nvPr/>
        </p:nvSpPr>
        <p:spPr>
          <a:xfrm>
            <a:off x="179280" y="4643280"/>
            <a:ext cx="8785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сновная проблема – не сходится межгодовой баланс просто из-за невнима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ыявлено больных с активным ТБ 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руппы табл.2400 стр.3 гр.6 рав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абл.2300 стр.2 гр.(3-4-5) +(9-10-11) (рецидивы 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руппы 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зято в текущем году в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III A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руппу строка 8 гр.3 не должно быть меньше, чем в табл.2200 стр.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42920" y="428760"/>
            <a:ext cx="8794800" cy="25225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4"/>
          <p:cNvSpPr/>
          <p:nvPr/>
        </p:nvSpPr>
        <p:spPr>
          <a:xfrm>
            <a:off x="357120" y="3143160"/>
            <a:ext cx="8429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сновная проблема – не сходится межгодовой баланс просто из-за невнима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бследовано на МЛУ (стр.2) баланс не считае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ыявлена МЛУ (стр.3) по вертикали в графах 6-13 может быть больше строки 1 из-за бактериовыделителей, выявленных в прошлом году, у которых МЛУ выявлена в отчетном г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Если баклаборатория не делает посевы или анализы на ЛЧ, надо это отдельно отмет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0" y="4581360"/>
            <a:ext cx="10152000" cy="479520"/>
          </a:xfrm>
          <a:prstGeom prst="rect">
            <a:avLst/>
          </a:prstGeom>
          <a:ln w="0">
            <a:noFill/>
          </a:ln>
        </p:spPr>
      </p:pic>
      <p:sp>
        <p:nvSpPr>
          <p:cNvPr id="155" name="TextBox 6"/>
          <p:cNvSpPr/>
          <p:nvPr/>
        </p:nvSpPr>
        <p:spPr>
          <a:xfrm>
            <a:off x="500040" y="507204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бследовано на МБТ (сумма граф 1 и 2) должна быть больше количества в/в больных ТОД, т.к. каждого больного положено обследовать и скопией, и посев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>
            <a:off x="0" y="5715000"/>
            <a:ext cx="9223200" cy="434880"/>
          </a:xfrm>
          <a:prstGeom prst="rect">
            <a:avLst/>
          </a:prstGeom>
          <a:ln w="0">
            <a:noFill/>
          </a:ln>
        </p:spPr>
      </p:pic>
      <p:sp>
        <p:nvSpPr>
          <p:cNvPr id="157" name="TextBox 8"/>
          <p:cNvSpPr/>
          <p:nvPr/>
        </p:nvSpPr>
        <p:spPr>
          <a:xfrm>
            <a:off x="864360" y="6143760"/>
            <a:ext cx="28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  Обычно проблем не возник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14200" y="549360"/>
          <a:ext cx="8678880" cy="3178080"/>
        </p:xfrm>
        <a:graphic>
          <a:graphicData uri="http://schemas.openxmlformats.org/drawingml/2006/table">
            <a:tbl>
              <a:tblPr/>
              <a:tblGrid>
                <a:gridCol w="3372120"/>
                <a:gridCol w="309240"/>
                <a:gridCol w="766800"/>
                <a:gridCol w="881280"/>
                <a:gridCol w="776160"/>
                <a:gridCol w="879480"/>
                <a:gridCol w="846000"/>
                <a:gridCol w="847800"/>
              </a:tblGrid>
              <a:tr h="172800">
                <a:tc row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помощ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ых, состоящих на учете 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впервые в жизни установленным диагнозом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14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14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160"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оспитализировано 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2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7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86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2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 marL="142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актериовыделител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1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6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дневные стационары  (из строки 01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санатории  (из строки 01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6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9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ы хирургические  методы лечения (всего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9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туберкулеза органов дыхания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8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по поводу ФКТ легки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тно-суставного  туберкулез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а мочеполовых орган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туберкулезом женских половых орган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а периферических лимфатических узл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в стационаре от туберкулеза больных, состоявших на  учете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8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1"/>
          <p:cNvSpPr/>
          <p:nvPr/>
        </p:nvSpPr>
        <p:spPr>
          <a:xfrm>
            <a:off x="2933640" y="189720"/>
            <a:ext cx="16289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6. Больничная и санаторная помощь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(2600)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д по ОКЕИ: человек - 79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179280" y="3714840"/>
            <a:ext cx="8964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аблица составлена наоборот сначала про контингенты, а потом про в/в.  Иногда пута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оспитализировано всего (строка 1) указываются люди, а не госпитализац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дин и тот же человек может быть госпитализирован сначала в стационар, потом в дневной стационар, потом в санаторий.  Показывать в строках (1,3,4) людей отдельно. Ничего не суммиров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 отличие от табл.2130, в строке 4 пишем всех, прошедших санаторное лечение, а не только больных Т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Хирургия (стр.5) тоже люди, а одному человеку можно сделать много операций по поводу разных локализаций, т.е. тоже пишем в каждую строку (6-11) людей, а не опе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Умерло в стационаре от туберкулеза из состоявших на учете – это часть из табл.2300 стр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0" y="6070680"/>
            <a:ext cx="9647280" cy="6444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7"/>
          <p:cNvSpPr/>
          <p:nvPr/>
        </p:nvSpPr>
        <p:spPr>
          <a:xfrm>
            <a:off x="825480" y="6478560"/>
            <a:ext cx="41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Заполняют только те, кто использует этот мет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"/>
          <p:cNvSpPr/>
          <p:nvPr/>
        </p:nvSpPr>
        <p:spPr>
          <a:xfrm>
            <a:off x="250920" y="5538960"/>
            <a:ext cx="874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(261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)  Кроме того, умерло от туберкулеза в туберкулезном стационаре больных, не состоявших на учете: взрослых  1___подростков 15-17 лет 2_______ детей 0 -14 лет   3_________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Дополнение к стр.12 табл. 2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81080" y="378000"/>
            <a:ext cx="8638920" cy="42033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179280" y="4508640"/>
            <a:ext cx="8964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лавное – правильно посчитать количество больных из формы прошлого года в строке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первые выявленные больные ТОД  (графы 3,5,6) берутся соответственно из табл.2100 строк 1,4, 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р.4 прошлого года, а гр.4 из табл.2500 стр.1  гр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Рецидивы всего - из табл.2300 стр.1 гр.3 прошлого г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Рецидивы бактериовыделители - из табл.2500 сумма граф 9 и 10 из строки 1 (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руппы и из снятых с учета) прошлого го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Переведено в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руппу (стр8) меньше разницы строк (1-2-3-4–5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179280" y="6165720"/>
            <a:ext cx="8496360" cy="2620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834120" y="6381720"/>
            <a:ext cx="28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  Обычно проблем не возник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0117080" cy="2519280"/>
          </a:xfrm>
          <a:prstGeom prst="rect">
            <a:avLst/>
          </a:prstGeom>
          <a:ln w="0">
            <a:noFill/>
          </a:ln>
        </p:spPr>
      </p:pic>
      <p:sp>
        <p:nvSpPr>
          <p:cNvPr id="169" name="TextBox 2"/>
          <p:cNvSpPr/>
          <p:nvPr/>
        </p:nvSpPr>
        <p:spPr>
          <a:xfrm>
            <a:off x="611280" y="3151080"/>
            <a:ext cx="8246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Данные заполняются из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ф. № 081/у «Медицинская карта больного туберкулёзом», т.к. ф.030-4/у на этих больных не заводи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о, после выявления ТБ, при осмотре для поступления на работу, больных туберкулезом высылают из субъекта и дальше про них ничего не известно. Есть субъекты, которые даже не включают их в ф.8, т.к. не заполняют на них ф.089/у, что недопустим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Если больной все-таки лечился в данном учреждении, то его учитывают в строках 3-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Если больной умер во время лечения или без лечения, но диспансеру известно, что болел, то включаем его в строки 6 (всего) и 7(в стационар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Данные о смерти из строки 6 включаются в табл.2310 строку1 графы 4-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Данные о смерти в стационаре из строки 7 включаются в  табл.2610 строку 1 графы 1-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из раздела 6 «Больничная и санаторная помощ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Типичные вопро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214280"/>
            <a:ext cx="4038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учитывать результаты молекулярно-генетических  методов при составлении отчёта по формам №№ 8, 33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Никак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уществующая система мониторинга не рассчитана на учёт результатов молекулярно-генетических методов исследов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48320" y="1214280"/>
            <a:ext cx="40384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учитывать результаты посевов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использованием автоматических бактериологических анализаторов (бактеков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при составлении отчёта по формам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№№ 8, 33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результаты обычного посе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Требования к составлению годового отчета за 2019 год</a:t>
            </a:r>
            <a:br>
              <a:rPr sz="2400"/>
            </a:b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по противотуберкулезной работе среди населени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5280" y="1197000"/>
            <a:ext cx="8291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) При сдаче отчета предоставить следующие отчетные форм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рма № 8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 заполнением всех таблиц по всем строкам и графам, в бумажном вариант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рма № 3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 заполнением всех таблиц по всем строкам и графам, в бумажном варианте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аблица 2513 формы № 30 – строка 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показать суммарно всех жителей территории обслуживания, обследованных в текущем году лучевым методом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в любой медицинской организации, независимо от ведомственной принадлежности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аблицы по противотуберкулезной работе среди детей и подростк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заполнить все таблицы по всем графам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в том числ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 отчете по иммунодиагностике туберкулеза (туберкулиновая проба, Диаскинтест) отразить число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лиц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бследованных данным методом, а не число выполненных исследований; данные должны совпадать с таблицей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513 ф. № 30 и таблицей 2200 ф. № 33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 отчете по вакцинации БЦЖ новорожденных предоставить сводные данные обо всех новорожденных детях района, в том числе рожденных в других ЛПУ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по ЗАГСу)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Требования к составлению годового отчета за 2019 год</a:t>
            </a:r>
            <a:br>
              <a:rPr sz="2400"/>
            </a:b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по противотуберкулезной работе среди населения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яснительная записка к годовому отчету по противотуберкулезной работе за подписью главного врача ЦРБ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 анализо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казателей в динамике за 3 года в сравнении с краем;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стоверные пофамильные списки с указанием даты рождения, адреса, даты взятия на учет, диагноза, раздельно с наличием бактериовыделения и без нег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контингентов, состоящих на учете по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группам ДУ (раздельно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ереведенных в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ГДУ в отчетном год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умерших от туберкулеза в отчетном году по данным ЦСУ, в том числ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делением на городских и сельских жителе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больных туберкулезом, умерших от других причин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бактериовыделителей с МЛУ и их движе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больных, оперированных по поводу туберкулеза различной  локализ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 ГБУЗ «ЗККФПЦ », ННИИТ, ККБ и др.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больных, прибывших из ФСИН в отчетном год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снятых с диспансерного учета в отчетном год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лиц с ВИЧ/ТБ, раздельно впервые выявленные и контингент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Требования к составлению годового отчета за 2019 год</a:t>
            </a:r>
            <a:br>
              <a:rPr sz="2400"/>
            </a:b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по противотуберкулезной работе среди населения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твержденную численность населения  района (всего, дети, подростки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чет за 2019г. по профилактическим осмотрам населения, в бумажном варианте и в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лектронном (Еxcel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пии форм диспансерного наблюдения больных туберкулезом ф – 30/04 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Требования к составлению годового отчета за 2019 год</a:t>
            </a:r>
            <a:br>
              <a:rPr sz="2400"/>
            </a:b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по противотуберкулезной работе среди населения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тчетные данные, отраженные в нескольких отчетных формах, должны во всех формах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СОВПАДАТЬ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в т.ч.: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--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сел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ммунодиагностика (проба Манту 2те, ДСТ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учевое обследование (флюорография, РГР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нтингенты всех групп «Д» учета, и т.д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Требования к составлению годового отчета за 2019 год</a:t>
            </a:r>
            <a:br>
              <a:rPr sz="2400"/>
            </a:b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по противотуберкулезной работе среди населения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Arial Black"/>
              </a:rPr>
              <a:t>Перед сдачей годового отчета будет проводиться контроль ведения </a:t>
            </a:r>
            <a:r>
              <a:rPr b="1" i="1" lang="ru-RU" sz="3200" spc="-1" strike="noStrike">
                <a:solidFill>
                  <a:srgbClr val="c00000"/>
                </a:solidFill>
                <a:latin typeface="Arial Black"/>
              </a:rPr>
              <a:t>Федерального регистра, лиц больных тубекулезом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Black"/>
              </a:rPr>
              <a:t>При наличии расхождений отчет  </a:t>
            </a:r>
            <a:r>
              <a:rPr b="1" i="1" lang="ru-RU" sz="3200" spc="-1" strike="noStrike">
                <a:solidFill>
                  <a:srgbClr val="c00000"/>
                </a:solidFill>
                <a:latin typeface="Arial Black"/>
              </a:rPr>
              <a:t>принят не будет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3" descr=""/>
          <p:cNvPicPr/>
          <p:nvPr/>
        </p:nvPicPr>
        <p:blipFill>
          <a:blip r:embed="rId1"/>
          <a:stretch/>
        </p:blipFill>
        <p:spPr>
          <a:xfrm>
            <a:off x="503280" y="115920"/>
            <a:ext cx="864072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Arial Black"/>
              </a:rPr>
              <a:t>Правила заполнения </a:t>
            </a:r>
            <a:br>
              <a:rPr sz="5400"/>
            </a:br>
            <a:r>
              <a:rPr b="1" i="1" lang="ru-RU" sz="5400" spc="-1" strike="noStrike">
                <a:solidFill>
                  <a:srgbClr val="c00000"/>
                </a:solidFill>
                <a:latin typeface="Arial Black"/>
              </a:rPr>
              <a:t>форм № 8 и №33 и </a:t>
            </a:r>
            <a:br>
              <a:rPr sz="5400"/>
            </a:br>
            <a:r>
              <a:rPr b="1" i="1" lang="ru-RU" sz="5400" spc="-1" strike="noStrike">
                <a:solidFill>
                  <a:srgbClr val="c00000"/>
                </a:solidFill>
                <a:latin typeface="Arial Black"/>
              </a:rPr>
              <a:t>типичные ошибки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07:54:17Z</dcterms:created>
  <dc:creator>User</dc:creator>
  <dc:description/>
  <dc:language>en-US</dc:language>
  <cp:lastModifiedBy>Елена Александровна Бронникова</cp:lastModifiedBy>
  <dcterms:modified xsi:type="dcterms:W3CDTF">2019-12-20T00:53:54Z</dcterms:modified>
  <cp:revision>90</cp:revision>
  <dc:subject/>
  <dc:title>Недочеты при составлении форм ФСН №№ 30,47,12. Сопоставление данных из разных форм с формами №№ 8 и 33</dc:title>
</cp:coreProperties>
</file>